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CAF-7AA0-4DBA-812D-A5AA59E73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FC9-7A64-4552-A40E-5E364FAD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D857-CAB4-4211-9E09-7831658A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4246-310E-4D10-B421-552D8127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5546-9AAA-48F2-AC05-EDB4A056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0F14E-B59D-41FA-9A9F-4FEC74B1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E4B9B-5D88-4198-BBB5-9CCD5D96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2B461-35EA-4499-9EB5-B2B42397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84DE-4D1C-4285-A69C-41E108F4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B8A0-CCEE-4297-A358-C14951EF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6D7F-9CEF-4D48-9B59-9BD2F01C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5879-35E6-4C7D-9B96-7395D6DE3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51AA-16F3-43DE-83BD-78F4EDEE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9FE4-2059-49E1-9E13-E150E752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9503-7A2E-4669-8399-E5F4510A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C69D-D6B5-40D7-AB68-8EB29FAD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0218-20C8-4BC1-899F-EE5683A4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E9F4-9711-4FB8-B4FE-AAA0AD0B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321-809B-453D-B0AB-1E24AF77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04A-4441-41C6-9372-CC7C5BE1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EE62-F32B-4030-A72F-A05A9684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013D-2E42-4FA8-87C7-1D0F7811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5CB8-147D-43BB-A133-5FAED4CC1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DA24-998B-4B68-BD3F-C029764E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C472-EA6E-4DAF-9AC1-D79918687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6107-12C2-4F7D-8643-D2594A41F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gnskapet i Bridg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coring av spil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ammenligning av scor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coring og utregning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Scoring av spillet ved bordet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te er detaljert satt opp i § 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Utregningsmetoder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Detaljene finnes i § 7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Reglene om minst 60 %  og bruken av Neubergs formel er hjemlet i denne paragrafen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Se også plansjeserien turneringsfor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tregn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rrangøren bestemmer  hvilken utregningsmetode som skal bruk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rsom IMP eller MP brukes så gjelder reglene for bruken av dem i § 78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Neuberg’s formel er kun tilgjengelig i BK2000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Justeringer må gjøres manuelt i andre programm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anuell sco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Les om det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Turneringslederboka Bjarne Mathis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glement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gnskap av Per Nord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Matchpo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2 poeng for alle svakere resulta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1 poeng for alle like resultat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1 poeng for justerte scorer på andre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M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ummer resultatet for et lag - se i tabell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ummen av IMP gir grunnlaget for beregning av V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Øvingsoppg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Bruk SlipperR 1-4 fra Kilder\Nordland\Regnskap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coring med datamaski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Resultatene tastes inn i maskin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e på inntastingsbil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till inn beregningen slik du vil ha d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ruk kontrakt og stikk og evt. kontroll med score for å redusere feilprosen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erieturneringer Butlerscore scores pr bor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Howell og Mitchell turneringer scores pr spill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Lagturneringer scores pr kamp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9T11:16:54Z</dcterms:created>
  <dc:creator>Per Nordland</dc:creator>
  <dc:description/>
  <dc:language>en-US</dc:language>
  <cp:lastModifiedBy>Per Nordland</cp:lastModifiedBy>
  <dcterms:modified xsi:type="dcterms:W3CDTF">2001-09-29T14:42:12Z</dcterms:modified>
  <cp:revision>1</cp:revision>
  <dc:subject/>
  <dc:title>Regnskapet i Bridge</dc:title>
</cp:coreProperties>
</file>